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2D0-EA12-4200-AF07-C2D96295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0B9-3048-451D-AACA-F8CA5D24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B52-4B78-4462-9100-20A2666E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648-2CDA-41F3-805A-EE2F7713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F2FB-FFA6-422C-9A3F-7838A954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FC44-2A35-4E6B-BC4C-6BB17E69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681A-8296-42A2-BADF-7137BD6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0932-E618-46EA-85DE-2EE3B4D9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3883-776B-43CE-987C-7B8AB293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357F-F725-45EF-BE96-2AF1ED8C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2447-FAE7-4DC4-ABE4-E39535EB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8EA-EB76-4A5F-B9D9-981A253E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B93F-828E-47E7-B410-5F1719B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F9B7-2CC4-4094-B252-73B6488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61BC-1DB6-474D-8D02-49D3540C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B007-85BF-43A6-A8AA-35FF08EE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8EAC-C5D6-4519-AC3E-186687F4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E98C-4AFB-41B3-ABF6-090505A6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B97A-125C-4A02-AF58-E677AA24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4931-9CE6-4018-9B3A-1DA4A8B8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D7AB-D486-44D2-B800-07485305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D7E6-33EE-4430-BAAB-813227DC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B9F-9E10-4626-B9E8-B43B1EAB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C5B2-57B9-4B64-A55D-42D1B242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FC94-9CF5-45A3-916B-CAE445B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0838-1F12-4AFC-B54E-F9E2DBA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3E19-8C07-4617-BFFC-5A631C6C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E6F5-FF51-40E2-A3BD-538F818C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A002-2502-40BD-8856-103998F9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C0E7-62B2-4B21-8606-85ED96F7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7B47-0357-4AA1-824D-1112E1F8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5962-A05B-42BF-9070-45C4C69E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22B3-54E8-4ECB-A267-08A5F8D3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23F-643F-4883-B5B8-A44BAA1F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5E15-00A8-4625-888A-F877BB85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106B0-B17F-44CA-B33B-3F3060A0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AE4B-20DE-4BB3-9C95-555FB9DB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DFAD-AB0E-4B71-8ED6-8630567D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D9BD-C60D-4106-9137-4A3FCFE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1FFA-48B4-47E7-ADC9-E7B30CA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F7B0B-9F9D-48B0-8564-48F7D039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C08D5-BBF2-4CD8-A48D-CCD8347A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331F-8B56-4B73-9890-05A55863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B3A50-D581-4175-9826-524525BA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0DC-5225-4AE3-8E0B-8439680B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E9D22-EEB8-4130-B298-3BFD1460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AF99D-2A78-488E-878A-E527CA1B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C84FA-6A56-4730-9768-5711334E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C348-F19F-4D11-8CF2-8672FFA2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6FA4C-F88A-4DF7-8552-AB3C158C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41D1-00C1-4489-B132-01B1A474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F039-3B23-46E2-9DEC-E6781FB0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FE40-BCF2-4097-9A07-659A34ED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87B8-EB4B-475F-A86E-7F8ED37C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E1D6-2C11-4B86-BB0B-00430810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319-63DF-47B5-BC7C-C148F08E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DB6DF-3447-4EC2-B580-ACB79769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48C6B-FA1A-4CA7-A7F2-85F3FEFF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2B78A-8570-4403-B2BC-B2DCD0C3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ED881-DF98-4AA0-904C-2120CCB2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6E0D-1E81-4AF5-8006-4B831441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34BA8-445D-4519-978E-D09A12A7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DA763-AF35-458C-832E-83FDB733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7CAF4-624F-4F0B-AB6C-67B42A4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79AB-971E-438A-9D98-989A9A81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51B0D-B183-4B49-82F1-8B7CD901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99D-CF9E-4052-A47F-768505CC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E7FE3-0D19-408C-B369-ED3BDE77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06072-443B-4DCD-B16C-31613546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FC673-6945-49DB-BA15-747137DB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E7A9F-1E13-4717-B0B6-7C4571CD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B8B00-C623-4C0A-9BB9-D9A7280C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9ABBF-C89C-4ECA-BD97-C87B22CB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59242-E20D-4D24-A546-61160E48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AE318-5FEB-48DA-A7DC-1D538712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A86DE-2485-4226-9507-7B196B2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117DA-5C52-4617-847B-80301637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DAB-ED86-42E6-A3C7-5F5467CB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34FE-B4C7-4C5D-B681-974F1255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B49C-64F3-4D5E-9076-8D8EC849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06319-BB7C-4F09-91DB-0F03BF1C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78DE7-3FEB-4A8C-9B9D-503235DB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3C817-545B-4197-B189-9F6D28F9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480-9224-48A6-BC98-AFB78C9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ED4B-D643-4BBE-81E8-4985D2CC82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DFE4-02F1-4092-A4C7-280957402FA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AFC9-5221-4DA9-BF4E-1253D5A264C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A474-9D10-481C-AFA6-3E131958D1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66E6-E488-40CC-BF27-2093EAEFBE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30A6-D0B8-4B20-8753-94DC2D6207C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A70F-DF83-48AB-80E0-236F5743D1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cave Mirro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jectiv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now the three principal rays for a concave mirr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principal rays to locate the image of an object in front of a concave mirr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rrectly classify images formed by concave mirro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derstand why different types of images can be formed with a concave mirr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o You Know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a concave mirror form an image that is not behind the mirror?  What might this image’s characteristics b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will know the answer to this question at the end of this less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cabul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Concave Mirror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a mirror that is a spherical surface, silvered on the outside of the spher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Principal Axis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a horizontal line that passes through the center of the mirro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Focal Point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the point at which incident parallel light rays cross the principal axis.  The distance from this point to the center of the mirror is called the focal length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cabula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enter of Curvatu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– the center of the sphere formed by the mirr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 center of curvature is double the focal lengt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eal imag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an image formed by light rays that intersect.  This type of image can be viewed on a scre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rror La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fety Considerations – Keep the laser parallel to the tabletop at all times.  Do not point the laser at anyon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rror Physle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to virtual optical ben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to concave mirror simu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1:06:12Z</dcterms:created>
  <dc:creator>YCSD</dc:creator>
  <dc:description/>
  <dc:language>en-US</dc:language>
  <cp:lastModifiedBy>Lori Andersen</cp:lastModifiedBy>
  <dcterms:modified xsi:type="dcterms:W3CDTF">2009-10-18T16:58:53Z</dcterms:modified>
  <cp:revision>6</cp:revision>
  <dc:subject/>
  <dc:title>Concave Mirrors</dc:title>
</cp:coreProperties>
</file>